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DA26C-E2E3-4F65-9DAC-3F5AC2C9F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3E2EE-E186-493B-9070-B30EC8F42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6C7C2-5E0D-41E4-97CA-2B03E4241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42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888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796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42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888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DC3E6-BF2E-46E0-A69E-D0489A4FD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605-1765-486E-8C14-3D8D04D92A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5FA-7539-43C1-B88B-832EC4840A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505C-2804-45CC-A914-14AF06918F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5D9-4211-449A-9112-EF73DF0C7B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836-793A-4B60-8C8D-FCC0CBBCAE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92360" y="2421000"/>
            <a:ext cx="6377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FF1-9D09-4820-926A-F444BF96D2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682-CEF2-471A-B9E3-331A784CB4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88122-957B-4301-9D00-B7C36E562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EB1-D02B-4D0F-A256-B8FAB12B49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F27-1EDF-4F7C-B201-CE179AC3B5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8E69-B380-414F-A02D-D27E06F8F1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864-F32E-448F-8C61-493069BDD4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42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88840" y="359856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796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42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88840" y="4374720"/>
            <a:ext cx="205164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287-01F9-44EB-873A-F99EB41AAF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6372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4A4E8-5700-43ED-91A5-9F4788362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0BD95-E752-4F1C-BFAB-F0164C9BC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DD342-2CFE-467C-9985-A894D74DF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92360" y="2421000"/>
            <a:ext cx="6377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2CDDF-427A-4986-B730-FD5A2798F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85FE1-5225-4618-A864-229BA18C6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44840" y="437472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EAD76-27E3-4353-9128-ADD3CBB8C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6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44840" y="3598560"/>
            <a:ext cx="31093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79640" y="4374720"/>
            <a:ext cx="6372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9EFE1-0408-49C4-9F31-1EE8F09C9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79280" y="1988640"/>
            <a:ext cx="784836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1" marL="533520" indent="-168480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2" marL="898560" indent="-185760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3" marL="1338120" indent="-260280">
              <a:lnSpc>
                <a:spcPct val="140000"/>
              </a:lnSpc>
              <a:buClr>
                <a:srgbClr val="4a4a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4" marL="2068560" indent="-228600">
              <a:lnSpc>
                <a:spcPct val="140000"/>
              </a:lnSpc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5" marL="2068560" indent="-228600">
              <a:lnSpc>
                <a:spcPct val="140000"/>
              </a:lnSpc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6" marL="2068560" indent="-228600">
              <a:lnSpc>
                <a:spcPct val="140000"/>
              </a:lnSpc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079640" y="6297480"/>
            <a:ext cx="720072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4a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604360" y="6297480"/>
            <a:ext cx="288720" cy="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4a4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11F9-FABC-4AF6-BCA9-97DC8505DA5D}" type="slidenum"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79280" cy="6859440"/>
          </a:xfrm>
          <a:prstGeom prst="rect">
            <a:avLst/>
          </a:prstGeom>
          <a:solidFill>
            <a:srgbClr val="5ba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079280" y="1196640"/>
            <a:ext cx="78483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44000" y="6297480"/>
            <a:ext cx="431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a4a"/>
                </a:solidFill>
                <a:latin typeface="Arial"/>
              </a:rPr>
              <a:t>Seite</a:t>
            </a:r>
            <a:endParaRPr b="0" lang="en-US" sz="1100" spc="-1" strike="noStrike">
              <a:solidFill>
                <a:srgbClr val="4a4a4a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64640" y="358920"/>
            <a:ext cx="928440" cy="217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079640" y="358920"/>
            <a:ext cx="1944720" cy="35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Num" idx="3"/>
          </p:nvPr>
        </p:nvSpPr>
        <p:spPr>
          <a:xfrm>
            <a:off x="7701120" y="6297480"/>
            <a:ext cx="1064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4a4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Seite </a:t>
            </a:r>
            <a:fld id="{EAD53B08-CB5B-45AF-AA30-BA3274834C84}" type="slidenum">
              <a:rPr b="0" lang="en-US" sz="1100" spc="-1" strike="noStrike">
                <a:solidFill>
                  <a:srgbClr val="4a4a4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79280" cy="6859440"/>
          </a:xfrm>
          <a:prstGeom prst="rect">
            <a:avLst/>
          </a:prstGeom>
          <a:solidFill>
            <a:srgbClr val="be3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64360" y="620640"/>
            <a:ext cx="1536840" cy="36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Informationssystem Medienpädagogik"/>
          <p:cNvPicPr/>
          <p:nvPr/>
        </p:nvPicPr>
        <p:blipFill>
          <a:blip r:embed="rId3"/>
          <a:srcRect l="0" t="0" r="32248" b="-567"/>
          <a:stretch/>
        </p:blipFill>
        <p:spPr>
          <a:xfrm>
            <a:off x="468360" y="549360"/>
            <a:ext cx="4390920" cy="50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a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 lvl="1" marL="263520" indent="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2" marL="622440" indent="171360" algn="ctr">
              <a:lnSpc>
                <a:spcPct val="140000"/>
              </a:lnSpc>
              <a:buClr>
                <a:srgbClr val="4a4a4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3" marL="973080" indent="181080" algn="ctr">
              <a:lnSpc>
                <a:spcPct val="140000"/>
              </a:lnSpc>
              <a:buClr>
                <a:srgbClr val="4a4a4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a4a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  <a:p>
            <a:pPr lvl="4" marL="1828800" indent="11160" algn="ctr">
              <a:spcBef>
                <a:spcPts val="499"/>
              </a:spcBef>
              <a:buClr>
                <a:srgbClr val="4a4a4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4a4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 lvl="5" marL="1828800" indent="11160">
              <a:spcBef>
                <a:spcPts val="499"/>
              </a:spcBef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4a4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 lvl="6" marL="1828800" indent="11160">
              <a:spcBef>
                <a:spcPts val="499"/>
              </a:spcBef>
              <a:buClr>
                <a:srgbClr val="4a4a4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4a4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ism-info.de/start.html" TargetMode="External"/><Relationship Id="rId3" Type="http://schemas.openxmlformats.org/officeDocument/2006/relationships/hyperlink" Target="http://www.ism-info.de/" TargetMode="External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20500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herche im Informationssystem Medienpädagog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15640" y="3860640"/>
            <a:ext cx="637236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a4a"/>
                </a:solidFill>
                <a:latin typeface="Arial"/>
              </a:rPr>
              <a:t>Ein einführendes Tutorial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88400" cy="4749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700360" y="2781360"/>
            <a:ext cx="1008000" cy="1295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2133720"/>
            <a:ext cx="270216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Freitext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allen vorhandenen Felder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chlagworte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Schlagwort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Personen,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Pers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Titel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Titeln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Jahr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Jahreszahl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Institution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Instituti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ISB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ISBN – Nummer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endung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Rundfunk- und Fernsehsendung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708000" y="2637000"/>
            <a:ext cx="2592360" cy="504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55640" y="1989000"/>
            <a:ext cx="807732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laufenden Projek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Projek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binierte Suche nach mehreren Projekt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knüpfung von mehreren Suchoption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56360" cy="4737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68360" y="3933720"/>
            <a:ext cx="1008360" cy="432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4076640"/>
            <a:ext cx="309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Erlaubt die Such auf laufende oder abgeschlossene Projekte zu beschränk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276360" y="4292280"/>
            <a:ext cx="1150920" cy="360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56360" cy="4737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12000" y="3068640"/>
            <a:ext cx="723600" cy="289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587640" y="3357720"/>
            <a:ext cx="505080" cy="792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0000" y="4149720"/>
            <a:ext cx="33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Die Register öffnen eine Übersicht aller in der Datenbank vorhandenen Schlagworte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56360" cy="4737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627280" y="2781360"/>
            <a:ext cx="1008000" cy="1295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00720" y="2349360"/>
            <a:ext cx="270216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Freitext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allen vorhandenen Felder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chlagworte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in Schlagwort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Projekttitel,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Projekttitel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Institution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Instituti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Laufend im Jahr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Jahren in denen ein Projekt lief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Personen, 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ucht nach beteiligten Personen</a:t>
            </a:r>
            <a:endParaRPr b="0" lang="en-US" sz="12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Projekt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377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el Spaß bei der Recher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079640" y="3598560"/>
            <a:ext cx="7596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a4a4a"/>
                </a:solidFill>
                <a:latin typeface="Arial"/>
              </a:rPr>
              <a:t>Für Fragen wenden Sie sich bitte an ism@dipf.d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6832440" cy="42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539640" y="1341360"/>
            <a:ext cx="80773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ssystem Medienpädagogik</a:t>
            </a:r>
            <a:endParaRPr b="0" lang="en-US" sz="32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0" name="">
            <a:hlinkClick r:id="rId2"/>
          </p:cNvPr>
          <p:cNvSpPr/>
          <p:nvPr/>
        </p:nvSpPr>
        <p:spPr>
          <a:xfrm>
            <a:off x="5867280" y="5953320"/>
            <a:ext cx="2913120" cy="296280"/>
          </a:xfrm>
          <a:prstGeom prst="rect">
            <a:avLst/>
          </a:prstGeom>
          <a:solidFill>
            <a:srgbClr val="008000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  <a:hlinkClick r:id="rId3"/>
              </a:rPr>
              <a:t>www.ism-info.de</a:t>
            </a:r>
            <a:endParaRPr b="0" lang="en-US" sz="1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2492280"/>
            <a:ext cx="8076960" cy="34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turnachweise zu medienpädagogischen Themenfelder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tasuch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gang zu den Datenbanken des ISM und seiner Partner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Suche nach Medi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Suche nach Projek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en über Veranstaltung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entipps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tuelles von den beteiligten Institution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295280"/>
            <a:ext cx="6858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Informationssystem Medienpädagogik bietet Ihnen</a:t>
            </a:r>
            <a:endParaRPr b="0" lang="en-US" sz="28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5640" y="1989000"/>
            <a:ext cx="807732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asuch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nbankübergreifende, parallele Recherche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nbanken können individuell ausgewählt und kombiniert werd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knüpfung von mehreren Suchoption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493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195640" y="2708280"/>
            <a:ext cx="1079280" cy="100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71628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elder zur Auswahl relevanter Bereiche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132000" y="3573000"/>
            <a:ext cx="273528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2000" y="2565360"/>
            <a:ext cx="2592360" cy="12240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9640" y="2276640"/>
            <a:ext cx="19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elder für die Eingabe von Suchbegriff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796000" y="2781360"/>
            <a:ext cx="936720" cy="216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3645000"/>
            <a:ext cx="1079640" cy="8665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4292640"/>
            <a:ext cx="25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Auswahlfelder für die Datenbanken, die in die Suche einbezogen werd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492000" y="4149720"/>
            <a:ext cx="1800360" cy="503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1125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such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53440" cy="5016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68360" y="2708280"/>
            <a:ext cx="648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2060640"/>
            <a:ext cx="309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diesen Feldern kann die Auswahl getroffen werden in welchen Bereichen der Datenbanken gesucht werden soll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27640" y="3500280"/>
            <a:ext cx="45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ei Titel / Name wird nach dem Titel eines Werks oder dem Namen eines Autoren gesuch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924280"/>
            <a:ext cx="435240" cy="2174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27640" y="4149720"/>
            <a:ext cx="45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ei Freitext wird nach dem eingegebenen Wort in allen Feldern gesuch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3141720"/>
            <a:ext cx="721080" cy="2160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4797360"/>
            <a:ext cx="45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Bei Schlagwörter / Ort wird nach Schlagwörtern und/oder Orten gesucht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916000" y="2924280"/>
            <a:ext cx="1584360" cy="79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771280" y="3068280"/>
            <a:ext cx="1729080" cy="1152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843280" y="3357720"/>
            <a:ext cx="1657440" cy="1584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9640" y="2349360"/>
            <a:ext cx="1368360" cy="136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76720" y="2349360"/>
            <a:ext cx="259056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1125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suche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1989000"/>
            <a:ext cx="807732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Medi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beteiligten Person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binierte Suche nach mehreren Medi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knüpfung von mehreren Suchoptionen 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rche nach englisch oder deutschen Dokumen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elte Recherche nach online verfügbaren Dokumenten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lagwort und Personen Register</a:t>
            </a:r>
            <a:endParaRPr b="0" lang="en-US" sz="20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88400" cy="4749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63640" y="3933720"/>
            <a:ext cx="3816360" cy="935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46920" y="3933720"/>
            <a:ext cx="309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In diesen Feldern können Sie Ihre Suchanfrage genauer spezifizier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579640" y="4508640"/>
            <a:ext cx="576360" cy="72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88400" cy="4749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12000" y="2997360"/>
            <a:ext cx="720720" cy="6476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4005360"/>
            <a:ext cx="331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Die Register öffnen jeweils eine Übersicht aller in der Datenbank vorhandenen Schlagworte oder Personen</a:t>
            </a:r>
            <a:endParaRPr b="0" lang="en-US" sz="16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659280" y="3573000"/>
            <a:ext cx="360360" cy="360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4a4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1125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e in der Mediendatenbank</a:t>
            </a:r>
            <a:endParaRPr b="0" lang="en-US" sz="2400" spc="-1" strike="noStrike">
              <a:solidFill>
                <a:srgbClr val="4a4a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8:23:44Z</dcterms:created>
  <dc:creator>Gerda Balazs</dc:creator>
  <dc:description/>
  <dc:language>en-US</dc:language>
  <cp:lastModifiedBy>Siebold, Andres</cp:lastModifiedBy>
  <dcterms:modified xsi:type="dcterms:W3CDTF">2009-01-19T15:52:55Z</dcterms:modified>
  <cp:revision>5</cp:revision>
  <dc:subject/>
  <dc:title>Folie 1</dc:title>
</cp:coreProperties>
</file>